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3606-C718-40F9-B4FC-709C3CB16A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49B-218D-4CEF-920B-E2AC770D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FE6-5BB8-4CDC-9973-AEFCE466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346-CAF9-4DDD-AF21-99970C98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15F-94AF-4D91-8D12-F6CB992B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866-B71D-4B55-AB5A-83A2A703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611-E116-480E-86F3-1580CC78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2E3-D447-4FC8-8A4D-6E4B81E9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162-42D8-48F6-AC82-8EC3B5FA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A41-8357-438B-BAEE-0DC44840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1C2-E6EC-46C7-BF7F-54B113D7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DA7-F957-4C2D-8118-9533DE0A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035-0BC9-42CF-9801-7920F085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A4C2-24BA-42F5-A24E-78DED5B60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0450325"/>
          <p:cNvPicPr/>
          <p:nvPr/>
        </p:nvPicPr>
        <p:blipFill>
          <a:blip r:embed="rId2"/>
          <a:stretch/>
        </p:blipFill>
        <p:spPr>
          <a:xfrm>
            <a:off x="7238880" y="4172040"/>
            <a:ext cx="190512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07766582_755"/>
          <p:cNvPicPr/>
          <p:nvPr/>
        </p:nvPicPr>
        <p:blipFill>
          <a:blip r:embed="rId2"/>
          <a:stretch/>
        </p:blipFill>
        <p:spPr>
          <a:xfrm>
            <a:off x="5076720" y="1413000"/>
            <a:ext cx="3745080" cy="42494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305730749493540"/>
          <p:cNvPicPr/>
          <p:nvPr/>
        </p:nvPicPr>
        <p:blipFill>
          <a:blip r:embed="rId2"/>
          <a:stretch/>
        </p:blipFill>
        <p:spPr>
          <a:xfrm>
            <a:off x="4788000" y="4005360"/>
            <a:ext cx="3673440" cy="263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dobreniya"/>
          <p:cNvPicPr/>
          <p:nvPr/>
        </p:nvPicPr>
        <p:blipFill>
          <a:blip r:embed="rId3"/>
          <a:stretch/>
        </p:blipFill>
        <p:spPr>
          <a:xfrm>
            <a:off x="4932360" y="333360"/>
            <a:ext cx="3600360" cy="29336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457200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обенности рынка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515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23"/>
          <p:cNvPicPr/>
          <p:nvPr/>
        </p:nvPicPr>
        <p:blipFill>
          <a:blip r:embed="rId2"/>
          <a:stretch/>
        </p:blipFill>
        <p:spPr>
          <a:xfrm>
            <a:off x="4788000" y="2060640"/>
            <a:ext cx="435600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2:23:12Z</dcterms:created>
  <dc:creator>Admin</dc:creator>
  <dc:description/>
  <dc:language>en-US</dc:language>
  <cp:lastModifiedBy>LEGION</cp:lastModifiedBy>
  <dcterms:modified xsi:type="dcterms:W3CDTF">2016-01-04T13:42:26Z</dcterms:modified>
  <cp:revision>8</cp:revision>
  <dc:subject/>
  <dc:title>Презентация по экономике на тему: Рынок земли и природных ресурсов</dc:title>
</cp:coreProperties>
</file>